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48CE-12C6-4125-B156-E48AE6D3F72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50D9F-93B0-440E-8D8E-2857AA26A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E400D-858B-42C9-B8EB-F4322D53D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EEBDD-817E-4896-9BB1-B744A1E27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F0FDC-BAFD-44EC-A160-633B2A08D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92ACA-3D39-45C1-A478-7B69E4E8D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C9179-13FB-42F9-9645-B07EE2D3A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262C3-8C16-408A-8807-939311121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F6CB9-8365-4602-83B3-038EC3584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EAF2B-9B22-44AA-8801-289248632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74343-AD78-441E-B547-31EB1979D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57E48-71FF-4E25-AEA5-66E4BEA7D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8584A-345E-4EAF-8EC0-A69CE95D3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192E-82B6-4A63-896D-7D3543E906D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6C48-4A25-43BF-A661-22B744CF9992}"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2</cp:lastModifiedBy>
  <dcterms:modified xsi:type="dcterms:W3CDTF">2016-01-13T10:13:34Z</dcterms:modified>
  <cp:revision>9</cp:revision>
  <dc:subject/>
  <dc:title>SUPPORT AND TRANSPORT IN PLANTS</dc:title>
</cp:coreProperties>
</file>